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7F1-94F2-40DF-BBD1-D50E4774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E6E-4B12-4E30-AD53-78BCA5D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AC8-D04D-4800-B6EB-7ACC6C78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DDF-A1DA-4903-9582-F2F9494A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A30-5B78-451E-BC35-CD4D650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CBD-B1FD-47DA-8F0C-8C44918D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E37-664E-49AD-AB46-5EE1EF96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4E0-45C2-482D-896F-C68F19E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151-571E-42F8-9E51-E2F7B5C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7D5-AE7E-4F54-BFEF-A57700A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AE9-938C-4D8F-980B-62889E8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9DD-C766-4C44-879A-EF3A877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198C-319B-42AE-AF40-062F0935C1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eet.thefuntimesguide.com/images/blogs/big-feet-by-Pixel-Addict.jpg&amp;imgrefurl=http://feet.thefuntimesguide.com/2009/06/big_feet_shoes.php&amp;usg=__YHME9TvfXfMTPN7FEV20vzzLilc=&amp;h=1024&amp;w=683&amp;sz=225&amp;hl=en&amp;start=29&amp;itbs=1&amp;tbnid=bV_rCjS-FbOmWM:&amp;tbnh=150&amp;tbnw=100&amp;prev=/images%3Fq%3Dmen%2527s%2Bfeet%26start%3D18%26hl%3Den%26safe%3Dactive%26sa%3DN%26gbv%3D2%26ndsp%3D18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csc.myweb.usf.edu/aprilfool08/Beauty%2520and%2520Fashion%2520Blog_files/beautiful_feet.jpg&amp;imgrefurl=http://wcsc.myweb.usf.edu/aprilfool08/&amp;usg=__ZZncFASQ0jYtW1PsKYrnjN72MbI=&amp;h=292&amp;w=400&amp;sz=38&amp;hl=en&amp;start=8&amp;itbs=1&amp;tbnid=JVkbrdVkdGue-M:&amp;tbnh=91&amp;tbnw=124&amp;prev=/images%3Fq%3Dfeet%26hl%3Den%26safe%3Dactive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et, feet and more feet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747800" cy="262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152280"/>
            <a:ext cx="19018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943600" y="3505320"/>
            <a:ext cx="2789280" cy="30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09480" y="3886200"/>
            <a:ext cx="2895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ffect does gender have on guessing a boy from a girl from looking at the people’s fee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86688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971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 if you paint your nails you will not be able to tell the differ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886120" cy="379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 ,Kandra, Cody, Rachel, Janyssa, Dylan, and G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2438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picture of the testers feet and then see if gender has an affect on the outc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5105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dra- 7 male – 29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lan- 18 male – 18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yssa- 25 male – 13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s- 23 male – 13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l- 17 male – 18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y- 15 male -  18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4867200"/>
            <a:ext cx="2514600" cy="1990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ound that it doesn’t really have an affect. There was a lot of just random guessing. I  would say though that females were just a little better but there wasn’t much of a differ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48:25Z</dcterms:created>
  <dc:creator>USD376</dc:creator>
  <dc:description/>
  <dc:language>en-US</dc:language>
  <cp:lastModifiedBy>USD376</cp:lastModifiedBy>
  <dcterms:modified xsi:type="dcterms:W3CDTF">2010-04-30T13:39:47Z</dcterms:modified>
  <cp:revision>6</cp:revision>
  <dc:subject/>
  <dc:title>Title</dc:title>
</cp:coreProperties>
</file>